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4019B-F518-4B9F-BEF8-70E07220CB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55500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5A55A-89A4-4CBA-BE55-D70989E292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284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E3F31-A56F-44CF-BA1E-78F1CBE0B5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8240" y="609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50680" y="609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55500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8240" y="355500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50680" y="355500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D32B2-4D06-4DAF-8987-508042ABCB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440" y="75960"/>
            <a:ext cx="75438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670F1-0AD1-4D1F-99A1-012259610A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0284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55500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355500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0284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68240" y="609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50680" y="609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355500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68240" y="355500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50680" y="355500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99BFB-F992-44F8-A95E-F28F46247B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F7A5C-6637-4DC6-A882-4DCFCAA7AF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1DAEE-DA8E-46D0-93FB-4203416085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440" y="75960"/>
            <a:ext cx="75438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11C49-374F-48A7-B938-1752933466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69819-FB3F-4ECB-8F75-AA68A46501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284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3154E-42FB-4D91-A231-D464EE0A45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55500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B24E2-BEF3-4875-91E6-3B60ED2FA4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2051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265680">
              <a:spcBef>
                <a:spcPts val="1749"/>
              </a:spcBef>
              <a:spcAft>
                <a:spcPts val="1749"/>
              </a:spcAft>
              <a:buClr>
                <a:srgbClr val="33339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6588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0004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6400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6400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6400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381880" y="6552720"/>
            <a:ext cx="533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1205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888ED-D931-40F3-952A-1C62EA0F14C4}" type="slidenum">
              <a:rPr b="0" lang="en-US" sz="1200" spc="-1" strike="noStrike">
                <a:solidFill>
                  <a:srgbClr val="11205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38080" y="6552720"/>
            <a:ext cx="182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Nyilvánosan használhat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6552720"/>
            <a:ext cx="8229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112051"/>
                </a:solidFill>
                <a:latin typeface="Arial"/>
              </a:rPr>
              <a:t>Eclipse alap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305920" y="76320"/>
            <a:ext cx="53316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2051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552000"/>
            <a:ext cx="914400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112051"/>
                </a:solidFill>
                <a:latin typeface="Arial"/>
              </a:rPr>
              <a:t>© 2006 IND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00080" algn="ctr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20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2" marL="914400" indent="712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5724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00360" algn="ctr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0036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0036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112051"/>
                </a:solidFill>
                <a:latin typeface="Arial"/>
              </a:rPr>
              <a:t>Eclipse alapok</a:t>
            </a:r>
            <a:endParaRPr b="1" lang="en-US" sz="36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800" y="3504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: Eclipse oktat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Státusz: Kidolgozás ala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erzió: 0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ódosítva: 2006-10-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észítette: Sallai Krisztián Zsol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Bizalmasság: Nyilvánosan használh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733920" y="762120"/>
            <a:ext cx="1600200" cy="9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Fontosabb Eclipse eszközök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BIRT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iness Intelligence and Reporting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Riport készítés támogatás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ubclip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SVN (Subversion) támogatás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Nem Eclipse projekt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47CA5-D160-418B-B3DA-F522F96D2EA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Eclipse FrameWork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aga az Eclipse FrameWork nem egy konkrét, monolit program, hanem egy kis kernel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plugin loader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néven. Szinte semmilyen látható szolgáltatása sincs a pluginek betöltésén és kezelésén kívü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szolgáltatásokat gyakorlatilag a pluginek adják, amik egymásra épülnek, használják egymás szolgáltatásait, illetve a felhasználó felé is nyújthatnak további szolgáltatások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77D00-802A-45D5-AD25-0D6E8FB6087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Eclipse FrameWork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447920" y="762120"/>
            <a:ext cx="6476760" cy="5414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3D595-1EB9-4463-B02A-018689BC036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Eclipse FrameWork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924680" cy="5371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D0CF8-0967-419E-8745-1EE976F52E5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Workspace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Workspace gyakorlatilag egy könyvtár, ahol a felhasználó munkája tárolódi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Fontos megjegyezni, hogy nemcsak a szokásos munka fájlokat (forráskód, xml, kép, stb.) tartalmazza, hanem az összes beállítást 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Workspace váltásnak, mint lehetőségnek, nagyon nagy szerepe lehet.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Problémákat, érdekes jelenségeket okozhat.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BEA53-24F2-483B-B0DE-F79F4277A21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Workbench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Workbench gyakorlatilag a felület, amin keresztül a felhasználó munkáját végzi. A szokásos elemeken kívül perspektívákat, editorokat és nézeteket tartalmazha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nézetek az editorokat támogatják, továbbá alternatív prezentációt vagy navigációt biztosítanak a Workbench számá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perspektívák a különböző nézetek és egy editor területet tartalmaznak. Míg a nézetek halmaza eltérhet a különböző perspektívákban, addig az editor terület megosztott közöttü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7A317-77D4-4208-B907-04E5D515015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Workbench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286000" y="676440"/>
            <a:ext cx="4572000" cy="5505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383E5-9B54-4869-A2AF-543A347EEBA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SWT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tandard Widget Tool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gy nyílt forráskódú felhasználói felület készlet. Hasonló az AWT, Swing megoldásokhoz, de gyorsabb és gazdagabb. Az implementációja OS függő, bár ez a programozás szempontjából transzpare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3809880"/>
            <a:ext cx="2057400" cy="19432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3657600" y="3733920"/>
            <a:ext cx="2019240" cy="21333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6324480" y="3657600"/>
            <a:ext cx="2210040" cy="22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63DE1-C428-4EF7-95C7-42B064C0E31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JFace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SWT-re épül és bővíti azt segéd osztályokkal a következő célokk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Viewer komponensekkel bővíti az SWT-t, amely révén a rabszolgamunkát könnyíti meg. (rendezés, szűrés, frissítés, stb.)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Felhasználói akciók kezelését támogatja. Hol jelenhetnek meg, illetve mikor engedélyezettek.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Dialógus és varázsló ablakok készítését segíti.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EA17E-3F99-4A83-BDB5-C9C3A21C4BF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Eclipse</a:t>
            </a: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Eclipse egy nyílt forráskódú közösség, akiknek a projektjei egy nyitott fejlesztő platform készítésére összpontosítanak magába foglalva a bővíthető keretrendszert és különböző eszközöket a build, deploy és manage folyamatokho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Vezető technológia cégek, egyetemek és kutató intézetek bővítik és támogatják az Eclipse platform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B480F-E78D-42DE-A641-09091FC4DC4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Eclipse projektek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z Eclipse nyílt forráskódú közösség több mint 60 nyílt forrású projektet tartalmaz. Ezek a projektek koncepcionálisan 7 különböz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kategóriába sorolhatóak b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2051"/>
                </a:solidFill>
                <a:latin typeface="Arial"/>
              </a:rPr>
              <a:t>Enterprise Development 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2051"/>
                </a:solidFill>
                <a:latin typeface="Arial"/>
              </a:rPr>
              <a:t>Embedded and Device Development 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2051"/>
                </a:solidFill>
                <a:latin typeface="Arial"/>
              </a:rPr>
              <a:t>Rich Client Platform 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2051"/>
                </a:solidFill>
                <a:latin typeface="Arial"/>
              </a:rPr>
              <a:t>Rich Internet Applications 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2051"/>
                </a:solidFill>
                <a:latin typeface="Arial"/>
              </a:rPr>
              <a:t>Application Frameworks 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2051"/>
                </a:solidFill>
                <a:latin typeface="Arial"/>
              </a:rPr>
              <a:t>Application Lifecycle Management (ALM) 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2051"/>
                </a:solidFill>
                <a:latin typeface="Arial"/>
              </a:rPr>
              <a:t>Service Oriented Architecture (SOA) 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77895-7F6F-450A-9B30-7B1FBDAEC2A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Eclipse Foundation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Eclipse Foundation egy nem profit orientált, tagok által támogatott vállalat, amely az Eclipse projekteket hosztolja. IT infrastruktúrával támogatja az Eclipse közösséget, mentora a nyílt forráskódú projekteknek az Eclipse fejlesztési folyamatban, továbbá marketing és üzleti fejlesztésekkel támogatja az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Fontos megérteni, hogy az Eclipse Foundation nem fejleszt nyílt forráskódot. Minden nyílt forrású szoftvert önkéntesek, szervezetek, vagy vállalatok készítene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A82FA-72FB-447B-8262-21F4D62FE01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Az Eclipse létjogosultsága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tendenciák a nyílt fejlesztőrendszerek előretörését mutatják, amelyeknek számos előnyös tulajdonsága van. Az alább felsoroltak mindegyikével rendelkezik az Eclip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Jól definiált keretrendszer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Nyílt specifikáció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Könnyen bővíthető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Platform-független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Programozási nyelv független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Optimális a gyorsan változó igényekhez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1A699-0906-48DB-9BA2-76A11417CF2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Az Eclipse létjogosultsága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rős ipari támogatottsága v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2409840" cy="6285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1219320"/>
            <a:ext cx="1380960" cy="819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5334120" y="1295280"/>
            <a:ext cx="1447560" cy="6858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990720" y="1981080"/>
            <a:ext cx="1885680" cy="12477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6019920" y="2209680"/>
            <a:ext cx="2381040" cy="6764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6"/>
          <a:stretch/>
        </p:blipFill>
        <p:spPr>
          <a:xfrm>
            <a:off x="7162920" y="1295280"/>
            <a:ext cx="1295280" cy="5526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7"/>
          <a:stretch/>
        </p:blipFill>
        <p:spPr>
          <a:xfrm>
            <a:off x="5715000" y="50292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8"/>
          <a:stretch/>
        </p:blipFill>
        <p:spPr>
          <a:xfrm>
            <a:off x="2743200" y="3505320"/>
            <a:ext cx="2381400" cy="3999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9"/>
          <a:stretch/>
        </p:blipFill>
        <p:spPr>
          <a:xfrm>
            <a:off x="990720" y="5257800"/>
            <a:ext cx="3914640" cy="666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0"/>
          <a:stretch/>
        </p:blipFill>
        <p:spPr>
          <a:xfrm>
            <a:off x="2286000" y="4114800"/>
            <a:ext cx="2819520" cy="7430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1"/>
          <a:stretch/>
        </p:blipFill>
        <p:spPr>
          <a:xfrm>
            <a:off x="5791320" y="3048120"/>
            <a:ext cx="2190600" cy="685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2"/>
          <a:stretch/>
        </p:blipFill>
        <p:spPr>
          <a:xfrm>
            <a:off x="5486400" y="3962520"/>
            <a:ext cx="1733400" cy="7617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13"/>
          <a:stretch/>
        </p:blipFill>
        <p:spPr>
          <a:xfrm>
            <a:off x="7010280" y="4876920"/>
            <a:ext cx="1524240" cy="12859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14"/>
          <a:stretch/>
        </p:blipFill>
        <p:spPr>
          <a:xfrm>
            <a:off x="914400" y="3657600"/>
            <a:ext cx="1295280" cy="638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15"/>
          <a:stretch/>
        </p:blipFill>
        <p:spPr>
          <a:xfrm>
            <a:off x="3733920" y="2438280"/>
            <a:ext cx="990360" cy="69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E2C13-A999-406B-B7B4-99EF0147F54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Fontosabb Eclipse eszközök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JDT – Java Developm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Kód szerkesztés, debug, futtatás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CDT – C Developm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Hasonló a JDT-hez, csak C/C++ nyelvhez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DE – Plugin Development Enviro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Új pluginek készítése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WTP – Web Tools Plat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J2EE platformra történő fejlesztést támogatja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72E64-12E0-499F-BF16-401FC3D9D76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Fontosabb Eclipse eszközök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pache Ant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ea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Csoportmunka támogatás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CVS (Concurrent Versioning System) támogatás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Update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A fejlesztő környezet frissítése a feladata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Moduláris, bővíthető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5D565-AEE5-4E75-AFFB-FFF76C40EBA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Fontosabb Eclipse eszközök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MF – Eclipse Modeling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Saját modellezési nyelvek kezelése, modellek menedzselése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GEF – Graphical Editing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Grafikus editorok fejlesztése Eclipse alá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GMT – Generative Model Transform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Modell-transzformációk fejlesztésének támogatása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PTP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&amp; Performance Tools Plat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Tesztelés és teljesítmény mérés támogatása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72898-A4A3-4A1A-B0D0-DFF05E8DAFB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6T08:56:43Z</dcterms:created>
  <dc:creator/>
  <dc:description/>
  <dc:language>en-US</dc:language>
  <cp:lastModifiedBy>sallai</cp:lastModifiedBy>
  <dcterms:modified xsi:type="dcterms:W3CDTF">2006-11-02T13:17:19Z</dcterms:modified>
  <cp:revision>537</cp:revision>
  <dc:subject/>
  <dc:title>Empty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bbr.">
    <vt:lpwstr>-</vt:lpwstr>
  </property>
  <property fmtid="{D5CDD505-2E9C-101B-9397-08002B2CF9AE}" pid="3" name="Language">
    <vt:lpwstr>Hungarian</vt:lpwstr>
  </property>
  <property fmtid="{D5CDD505-2E9C-101B-9397-08002B2CF9AE}" pid="4" name="Status">
    <vt:lpwstr>Approved</vt:lpwstr>
  </property>
  <property fmtid="{D5CDD505-2E9C-101B-9397-08002B2CF9AE}" pid="5" name="Template Approver">
    <vt:lpwstr>Pető Zoltán</vt:lpwstr>
  </property>
  <property fmtid="{D5CDD505-2E9C-101B-9397-08002B2CF9AE}" pid="6" name="Template Author">
    <vt:lpwstr>Pető Zoltán</vt:lpwstr>
  </property>
  <property fmtid="{D5CDD505-2E9C-101B-9397-08002B2CF9AE}" pid="7" name="Template Date">
    <vt:lpwstr>2006-10-12</vt:lpwstr>
  </property>
  <property fmtid="{D5CDD505-2E9C-101B-9397-08002B2CF9AE}" pid="8" name="Template Lang.">
    <vt:lpwstr>Hungarian</vt:lpwstr>
  </property>
  <property fmtid="{D5CDD505-2E9C-101B-9397-08002B2CF9AE}" pid="9" name="Template Name">
    <vt:lpwstr>Empty PowerPoint</vt:lpwstr>
  </property>
  <property fmtid="{D5CDD505-2E9C-101B-9397-08002B2CF9AE}" pid="10" name="Template Parent">
    <vt:lpwstr>-</vt:lpwstr>
  </property>
  <property fmtid="{D5CDD505-2E9C-101B-9397-08002B2CF9AE}" pid="11" name="Template Status">
    <vt:lpwstr>Approved</vt:lpwstr>
  </property>
  <property fmtid="{D5CDD505-2E9C-101B-9397-08002B2CF9AE}" pid="12" name="Template Validity">
    <vt:lpwstr>2006-10-12</vt:lpwstr>
  </property>
  <property fmtid="{D5CDD505-2E9C-101B-9397-08002B2CF9AE}" pid="13" name="Template Version">
    <vt:lpwstr>1.0</vt:lpwstr>
  </property>
  <property fmtid="{D5CDD505-2E9C-101B-9397-08002B2CF9AE}" pid="14" name="Tool">
    <vt:lpwstr>PowerPoint</vt:lpwstr>
  </property>
  <property fmtid="{D5CDD505-2E9C-101B-9397-08002B2CF9AE}" pid="15" name="Valid from">
    <vt:lpwstr>2006-10-12T00:00:00Z</vt:lpwstr>
  </property>
  <property fmtid="{D5CDD505-2E9C-101B-9397-08002B2CF9AE}" pid="16" name="Version0">
    <vt:lpwstr>1.0</vt:lpwstr>
  </property>
</Properties>
</file>